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C069-4995-4391-9943-2FA1C59EF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5E4D-16CD-49DE-9269-A9A9CF0E7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68DD-70AD-4B77-A2AC-43EF45763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B4F-0DB7-40C7-AD48-1814E6DD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FFB-CB17-477A-80CB-770425E1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642-D750-45F3-A83F-FC48AC47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215-34B8-4623-89C0-86528A60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DA0-93B3-4833-B861-324E0A32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0B8-D564-4560-80FA-0C24FE3B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B23-CD1D-4FA9-AB34-38C40A41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5F2-74A7-4587-A665-09C0950E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1B5-5A11-4E37-90C8-F1495BE0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9ED-EB4E-4ABA-AAAE-78D49C0E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317-29B8-4C30-AC44-AA87F601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7BC-D613-41B2-B89B-649CABD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4C66-2A3F-48CA-A9D4-6034F949C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29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«Городновский сельсовет»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Железногорского района Курской области на 2022 г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2023 и 20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4 г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ject 16" descr=""/>
          <p:cNvPicPr/>
          <p:nvPr/>
        </p:nvPicPr>
        <p:blipFill>
          <a:blip r:embed="rId2"/>
          <a:stretch/>
        </p:blipFill>
        <p:spPr>
          <a:xfrm>
            <a:off x="57240" y="2349360"/>
            <a:ext cx="89629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1" descr="ZZ446cH-hH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Городновский сельсовет» Железногорского района Курской области на 2022 год и на плановый период 2023 и 2024 годов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1125360"/>
          <a:ext cx="8318520" cy="5656320"/>
        </p:xfrm>
        <a:graphic>
          <a:graphicData uri="http://schemas.openxmlformats.org/drawingml/2006/table">
            <a:tbl>
              <a:tblPr/>
              <a:tblGrid>
                <a:gridCol w="2079720"/>
                <a:gridCol w="2079360"/>
                <a:gridCol w="2079720"/>
                <a:gridCol w="2079720"/>
              </a:tblGrid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 утвержденные расх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6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31" descr="ti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17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Городновский сельсовет» Железногорского района Курской области в 2024-2024 годах (тыс.руб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052640"/>
          <a:ext cx="9180360" cy="5881680"/>
        </p:xfrm>
        <a:graphic>
          <a:graphicData uri="http://schemas.openxmlformats.org/drawingml/2006/table">
            <a:tbl>
              <a:tblPr/>
              <a:tblGrid>
                <a:gridCol w="6156360"/>
                <a:gridCol w="936720"/>
                <a:gridCol w="934920"/>
                <a:gridCol w="115236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676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76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Georgia"/>
                        </a:rPr>
                        <a:t>57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87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98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95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. Муниципальная программа «Развитие культуры в муниципальном образовании «Городновский  сельсовет»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1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2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Georgia"/>
                        </a:rPr>
                        <a:t>320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Georgia"/>
                        </a:rPr>
                        <a:t>2.Муниципальная программа «Социальная поддержка граждан в Городновском 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. Муниципальная программа «Благоустройство Городновского сельсовета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. Муниципальная программа «Развитие муниципальной службы в Городновс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Georgia"/>
                        </a:rPr>
                        <a:t>5. Муниципальная программа «</a:t>
                      </a: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Century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 в Городновском сельсовете Железногор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6" descr="9d9bea5b6ea984b4e8dc344bf4a6f1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Городновский сельсовет»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Железногорского района Курской области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1268280"/>
          <a:ext cx="8215200" cy="5383440"/>
        </p:xfrm>
        <a:graphic>
          <a:graphicData uri="http://schemas.openxmlformats.org/drawingml/2006/table">
            <a:tbl>
              <a:tblPr/>
              <a:tblGrid>
                <a:gridCol w="4681440"/>
                <a:gridCol w="1224000"/>
                <a:gridCol w="1238040"/>
                <a:gridCol w="1071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285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157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144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Муниципальная программа «Развитие муниципальной службы в Городновском сельсовете Железногорского района  Курской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4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3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3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4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4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4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96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96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96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Выполнение других обязательств муниципальных образ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dengi_midl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 rot="16200000">
            <a:off x="100728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 rot="16200000">
            <a:off x="5435640" y="907920"/>
            <a:ext cx="2736720" cy="432144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1audittrassi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Городновского сель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«Городновский сельсо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3" descr="10316863_b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«Городновский сельсовет»  Железногорского района Курской области на 2022 год и плановый период 2023-2024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2205000"/>
          <a:ext cx="7961400" cy="4262400"/>
        </p:xfrm>
        <a:graphic>
          <a:graphicData uri="http://schemas.openxmlformats.org/drawingml/2006/table">
            <a:tbl>
              <a:tblPr/>
              <a:tblGrid>
                <a:gridCol w="2670120"/>
                <a:gridCol w="1862280"/>
                <a:gridCol w="1785960"/>
                <a:gridCol w="164304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76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6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4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29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30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3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76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6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4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Городновский сельсовет» на 2022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хема 1" descr=""/>
          <p:cNvPicPr/>
          <p:nvPr/>
        </p:nvPicPr>
        <p:blipFill>
          <a:blip r:embed="rId2"/>
          <a:stretch/>
        </p:blipFill>
        <p:spPr>
          <a:xfrm>
            <a:off x="281160" y="1841400"/>
            <a:ext cx="8613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Городновский сельсовет» на 2023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хема 1" descr=""/>
          <p:cNvPicPr/>
          <p:nvPr/>
        </p:nvPicPr>
        <p:blipFill>
          <a:blip r:embed="rId2"/>
          <a:stretch/>
        </p:blipFill>
        <p:spPr>
          <a:xfrm>
            <a:off x="281160" y="1841400"/>
            <a:ext cx="8613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Городновский сельсовет» на 2024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хема 1" descr=""/>
          <p:cNvPicPr/>
          <p:nvPr/>
        </p:nvPicPr>
        <p:blipFill>
          <a:blip r:embed="rId2"/>
          <a:stretch/>
        </p:blipFill>
        <p:spPr>
          <a:xfrm>
            <a:off x="324000" y="1841400"/>
            <a:ext cx="849600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7" descr="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16" descr=""/>
          <p:cNvPicPr/>
          <p:nvPr/>
        </p:nvPicPr>
        <p:blipFill>
          <a:blip r:embed="rId2"/>
          <a:stretch/>
        </p:blipFill>
        <p:spPr>
          <a:xfrm>
            <a:off x="57240" y="2349360"/>
            <a:ext cx="89629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7" descr="main"/>
          <p:cNvPicPr/>
          <p:nvPr/>
        </p:nvPicPr>
        <p:blipFill>
          <a:blip r:embed="rId1"/>
          <a:stretch/>
        </p:blipFill>
        <p:spPr>
          <a:xfrm>
            <a:off x="-541440" y="-998640"/>
            <a:ext cx="10514160" cy="7850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15832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ject 16" descr=""/>
          <p:cNvPicPr/>
          <p:nvPr/>
        </p:nvPicPr>
        <p:blipFill>
          <a:blip r:embed="rId2"/>
          <a:stretch/>
        </p:blipFill>
        <p:spPr>
          <a:xfrm>
            <a:off x="200160" y="1558800"/>
            <a:ext cx="877716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Buch</cp:lastModifiedBy>
  <dcterms:modified xsi:type="dcterms:W3CDTF">2022-01-04T18:30:26Z</dcterms:modified>
  <cp:revision>100</cp:revision>
  <dc:subject/>
  <dc:title>БЮДЖЕТ ДЛЯ ГРАЖДАН  муниципального образования «Кармановский сельсовет» Железногорского района Курской области на 2015 год  и на плановый период  2016 и 2017 годов</dc:title>
</cp:coreProperties>
</file>