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4CC-4B02-40EC-845A-9B6956DC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AB1-6047-4E67-89C7-B30A1B73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4D0-775E-4F3C-95E1-F4B1B5F5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486-1563-40F1-965F-5FD6CE0A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B2F-DB97-4316-ABCC-465840DC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815-67DD-41E1-AC74-6719F942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0D6-93BC-4894-8C1A-3594C3A7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0FD-53F3-4297-B47C-F1C37297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C41-51FE-42E3-A7DE-593F7C3D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B71-0356-4479-A18E-CB23B899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71B-CED6-4F56-8652-AAC7E3B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A5B-78C2-4046-A32F-7388FFD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157C-FC9B-4715-9492-35632A93E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42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 Box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для граждан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200" spc="-1" strike="noStrike">
                <a:solidFill>
                  <a:srgbClr val="403152"/>
                </a:solidFill>
                <a:latin typeface="Calibri"/>
              </a:rPr>
              <a:t>к проекту решения Собрания депутатов Городновского сельсовета Железногорского района Курской области</a:t>
            </a:r>
            <a:br>
              <a:rPr sz="2200"/>
            </a:br>
            <a:r>
              <a:rPr b="1" i="1" lang="ru-RU" sz="2200" spc="-1" strike="noStrike">
                <a:solidFill>
                  <a:srgbClr val="403152"/>
                </a:solidFill>
                <a:latin typeface="Calibri"/>
              </a:rPr>
              <a:t> «Об исполнении бюджета муниципального образования Городновский сельсовет Железногорского района Курской области за 2020 год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1184400" y="404640"/>
            <a:ext cx="626724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3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Object 23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75680" cy="5303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труктура налоговых доход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бюджета муниципального образования «Городновский сельсовет» за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20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0 г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1792440" y="2360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44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151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труктура налогов на имущество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за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0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0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Object 23" descr=""/>
          <p:cNvPicPr/>
          <p:nvPr/>
        </p:nvPicPr>
        <p:blipFill>
          <a:blip r:embed="rId2"/>
          <a:stretch/>
        </p:blipFill>
        <p:spPr>
          <a:xfrm>
            <a:off x="206280" y="765000"/>
            <a:ext cx="893772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5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164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труктура неналоговых доходов бюджета муниципального образования «Городновский сельсовет»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0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0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Object 23" descr=""/>
          <p:cNvPicPr/>
          <p:nvPr/>
        </p:nvPicPr>
        <p:blipFill>
          <a:blip r:embed="rId2"/>
          <a:stretch/>
        </p:blipFill>
        <p:spPr>
          <a:xfrm>
            <a:off x="-57240" y="835200"/>
            <a:ext cx="9269640" cy="56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612360" cy="825336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ная часть бюджета муниципального образования «Городновский сельсовет» Железногорского района Курской области за 2020 год исполнена на 99.75%  (утверждено 8 158 934 руб., исполнено 8 138 741,33 руб., в том числе на заработную плату с начислениями – 4 313 110,31 руб. или 99,94% к плановым назначениям – 4 315 594,33 руб., социальные выплаты 399 466,50 руб. или 100,00% к плановым назначениям 399 467,00 руб., оплату коммунальных услуг 179 607,96 руб. или 99,25% к плановым назначениям 180 972,78 руб., уплату налоговых и неналоговых платежей -  35 084,00 руб.  или 99,64%  к плановым назначениям  35 209,00  руб., другие расходы  3 211 472,56 руб. или 60,02% к плановым назначениям 3 227 690,89 руб.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В бюджет муниципального образования «Городновский сельсовет» Железногорского района Курской области из  областного бюджета в 2020 году поступила финансовая помощь в сумме  1 333 747,25 руб., или 20,76 % от общей суммы доходов, в том числе субсидии бюджетам сельских поселений на софинансирование расходных обязательств субъектов Российской Федерации, связанных с реализацией федеральной целевой программы "Увековечение памяти погибших при защите Отечества на 2019 - 2024 годы- 377 582,25 руб. прочие субсидии бюджетам сельских поселений- 869 322 руб., субвенции бюджетам сельских поселений на осуществление первичного воинского учета на территориях, где отсутствуют военные комиссариаты– 86 843,00 руб.,  безвозмездные поступления в местный бюджет 2020 года  составили на сумму 150000,00 рублей от Благотворительного общественного фонда «Милосердие» ОАО «Михайловский ГОК» 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100 «Общегосударственные расходы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 разделу 0100 по муниципальному образованию отражены расходы на содержание Администрации Городновского сельсовета Железногорского района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разделу «Общегосударственные вопросы» составили 2 715 341,49 руб. или 99,88% к плану (утверждено 2 718 531,00 руб.). 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о подразделу 0203 «Мобилизационная и вневойсковая подготов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 отчете отражены расходы  на осуществление первичного воинского учета на территориях, где отсутствуют военные комиссариаты в сумме 86 843,00 руб. или 100% к плановым назначениям 86 843,00 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одразделу 0310 «Обеспечение пожарной безопасност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ы расходы  на обеспечение первичных мер пожарной безопасности в границах муниципального образования. Расходы по данному подразделу исполнены в сумме 49 778,92 руб. или 100,00% к утвержденны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м назначениям 49 779,00 руб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одразделу 0503 «Благоустройств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ражены расходы на мероприятия по благоустройству муниципального образования. Расходы составили 1 448 852,57 руб. или 99,85% от утвержденных бюджетных назначений  план 1 450 887,00 руб.  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аздел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801 «Культур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ходы составили 3 438 458,85 или 99,57%  (утверждено 3 453 427 руб.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юджета муниципального образования «Городновский сельсовет» Железногорского района Курской области в течение года производилось финансирование Городновского центрального Дома культуры.Финансирование производилось за счет средств местного бюджета, а также из средств областного бюджета. Расходы на выплату заработной платы с начислениями составили – 2 273 642,60 руб. в том числе средства областного бюджета- 869 322, средства местного бюджета-1 404 320,60 ру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Средняя заработная плата работников культуры по «дорожной карте» на 2020 год установлена  29 945,40 руб., фактически исполнено 30 295,90 руб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одразделу 1001 «Пенсионное обеспече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ходы составили 399 466,50 руб. или 100,00 % к утвержденным бюджетным назначениям 399 467,00 ру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подразделу производились расходы по доплате к пенсии бывшим главам муниципального образования. Продолжена работа по повышению прозрачности и открытости бюджетного процесса муниципального образования. Практика представления бюджетных данных на сайте муниципального образования «Бюджет для граждан» распространена на бюджет на очередной финансовый год и плановы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17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00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униципального образования «Городновский сельсовет»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836640"/>
          <a:ext cx="7848720" cy="42735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790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8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Диаграмма 1" descr=""/>
          <p:cNvPicPr/>
          <p:nvPr/>
        </p:nvPicPr>
        <p:blipFill>
          <a:blip r:embed="rId2"/>
          <a:stretch/>
        </p:blipFill>
        <p:spPr>
          <a:xfrm>
            <a:off x="343080" y="353880"/>
            <a:ext cx="8218440" cy="54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9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24000" y="549360"/>
          <a:ext cx="8351640" cy="506736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витие культуры в муниципальном образовании «Городновский сельсов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лезногорского района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витие муниципальной службы в Городновском сельсов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лезногорского района 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щита населения и территории от чрезвычайных ситуац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пожарной безопасности и безопасности людей на водных объектах в Городновском сельсовете Железногорского района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доступным и комфортным жильем и коммунальными услугами граждан в Городновском сельсовете Железногорского района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ьная поддержка граждан в Городновском  сельсов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лезногорского района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5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044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468360" y="1268280"/>
            <a:ext cx="806436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Городновский сельсовет» Железногорского района  за 2020 год утверждён в соответствии с действующим законодательством. Исполнение бюджета рассматривается и обсуждается на публичных слушаниях среди населения. Подлежит опубликованию в газете «Жизнь района» и на сайте Администрации Городновского сельсовета Железногорского района Курской области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3" descr="https://astrakhanfm.ru/uploads/posts/2019-12/1576220304_bjudzhetbjudzhet.jpg"/>
          <p:cNvPicPr/>
          <p:nvPr/>
        </p:nvPicPr>
        <p:blipFill>
          <a:blip r:embed="rId2"/>
          <a:stretch/>
        </p:blipFill>
        <p:spPr>
          <a:xfrm>
            <a:off x="642960" y="2482920"/>
            <a:ext cx="77151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6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75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396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8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Городновский сельсовет» за 2020 год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 423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1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1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044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«Городновский сельсов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13"/>
          <p:cNvSpPr/>
          <p:nvPr/>
        </p:nvSpPr>
        <p:spPr>
          <a:xfrm>
            <a:off x="0" y="1173240"/>
            <a:ext cx="308772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лог на доходы физических лиц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лог на имущество с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Прямая со стрелкой 5"/>
          <p:cNvCxnSpPr>
            <a:stCxn id="106" idx="6"/>
            <a:endCxn id="105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8" name="Прямая со стрелкой 7"/>
          <p:cNvCxnSpPr>
            <a:stCxn id="109" idx="2"/>
            <a:endCxn id="105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Прямая со стрелкой 12"/>
          <p:cNvCxnSpPr>
            <a:endCxn id="105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11" name="TextBox 15"/>
          <p:cNvSpPr/>
          <p:nvPr/>
        </p:nvSpPr>
        <p:spPr>
          <a:xfrm>
            <a:off x="5003640" y="32796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2020 год бюджет  муниципального образования «Городновский сельсовет» по доходам исполнен на 99,96 % план – 6 425 878,00 руб., факт – 6 423 378,88 руб., в том числе за счет поступления собственных (налоговых и неналоговых) доходов бюджет исполнен на 99,99% (план – 4 940 131,00 руб.,  факт – 4 939 631,63 руб.),  что составляет 76,90 % от общего объема поступивших средст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бственные средств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НДФЛ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  90 803,67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диный сельскохозяйственный налог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7 259,50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логи на имуществ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 937 049,88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ходы, получаемые в виде арендной платы, а также средства от продажи права на заключение договоров аренды за земли, находящиеся в собственности сельских  поселений (за исключением земельных участков муниципальных бюджетных и автономных учреждений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 1 892 963,78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ходы от сдачи в аренду имущества, находящегося в оперативном управлении органов управления сельских поселений и созданных ими учреждений (за исключением имущества муниципальных бюджетных и автономных учреждений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  1 554,80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ыми доходными источниками поступлений собственных средств в бюджет муниципального образования «Городновский сельсовет» являются земельный налог – 57,41% в общей сумме собственных доходов ,и доходы получаемые в виде арендной платы –  38,32 %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возмездные поступления  1 483 747,25 рублей, что составляет 23,10 % от общего объема поступивших средст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бсидии бюджетам на софинансирование расходных обязательств субъектов Российской Федерации, связанных с реализацией федеральной целевой программы "Увековечение памяти погибших при защите Отечества на 2019 - 2024 годы-    377 582,25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чие субсидии бюджетам сельских поселений  869 322,00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бвенции бюджетам сельских поселений на осуществление первичного воинского учета на территориях, где отсутствуют военные комиссариаты    86 843,00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чие безвозмездные поступления в бюджеты сельских поселени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50 000,00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«Городновский сельсовет» за 2020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401760" y="1544760"/>
            <a:ext cx="81565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1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уктура налоговых и неналоговых доходов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юджета муниципального образования «Городновский сельсовет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в 2020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ject 24" descr=""/>
          <p:cNvPicPr/>
          <p:nvPr/>
        </p:nvPicPr>
        <p:blipFill>
          <a:blip r:embed="rId2"/>
          <a:stretch/>
        </p:blipFill>
        <p:spPr>
          <a:xfrm>
            <a:off x="272880" y="2298600"/>
            <a:ext cx="8604360" cy="3584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7"/>
          <p:cNvSpPr/>
          <p:nvPr/>
        </p:nvSpPr>
        <p:spPr>
          <a:xfrm>
            <a:off x="250920" y="1052640"/>
            <a:ext cx="8464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ОХОДЫ всего: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020 год – 6423,4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ыс.рублей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2387520" y="257184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Неналогов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охо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894,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Buch</cp:lastModifiedBy>
  <dcterms:modified xsi:type="dcterms:W3CDTF">2022-02-14T14:14:41Z</dcterms:modified>
  <cp:revision>240</cp:revision>
  <dc:subject/>
  <dc:title>Презентация PowerPoint</dc:title>
</cp:coreProperties>
</file>