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42D-7F86-4259-9DBD-B67B1FC0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026-94AC-4E7A-8967-4A61B008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BD5-75EA-4298-911A-381542A1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DFC-276D-454A-A57D-989D6353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412-0C84-41ED-A559-E0F1CB6A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23B-DB67-4A78-A837-5D5BF0B7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9FA-D69C-40E3-AA29-682DFA7E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D73-B167-440C-80C5-60537AE2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E6F-E9CB-416E-8648-27E09E26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8B2-1DE3-408B-8A8B-0DBD64D2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038-AF35-4FF3-BB34-2B94DB9B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0E2-0965-451C-AB88-24035BE0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7A6-3228-4517-AA52-BE0D7323A1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42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 Box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для граждан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200" spc="-1" strike="noStrike">
                <a:solidFill>
                  <a:srgbClr val="403152"/>
                </a:solidFill>
                <a:latin typeface="Calibri"/>
              </a:rPr>
              <a:t>к проекту решения Собрания депутатов Городновского сельсовета Железногорского района Курской области</a:t>
            </a:r>
            <a:br>
              <a:rPr sz="2200"/>
            </a:br>
            <a:r>
              <a:rPr b="1" i="1" lang="ru-RU" sz="2200" spc="-1" strike="noStrike">
                <a:solidFill>
                  <a:srgbClr val="403152"/>
                </a:solidFill>
                <a:latin typeface="Calibri"/>
              </a:rPr>
              <a:t> «Об исполнении бюджета муниципального образования Городновский сельсовет Железногорского района Курской области за 2021 год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2"/>
          <a:stretch/>
        </p:blipFill>
        <p:spPr>
          <a:xfrm>
            <a:off x="1184400" y="404640"/>
            <a:ext cx="626724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3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34" name="Object 23"/>
          <p:cNvGraphicFramePr/>
          <p:nvPr/>
        </p:nvGraphicFramePr>
        <p:xfrm>
          <a:off x="490680" y="498600"/>
          <a:ext cx="8275320" cy="530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0680" y="498600"/>
                    <a:ext cx="827532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труктура налоговых доход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бюджета муниципального образования «Городновский сельсовет» за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20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21 г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1792440" y="2360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4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aphicFrame>
        <p:nvGraphicFramePr>
          <p:cNvPr id="153" name=""/>
          <p:cNvGraphicFramePr/>
          <p:nvPr/>
        </p:nvGraphicFramePr>
        <p:xfrm>
          <a:off x="4932360" y="1484280"/>
          <a:ext cx="4038480" cy="2185920"/>
        </p:xfrm>
        <a:graphic>
          <a:graphicData uri="http://schemas.openxmlformats.org/drawingml/2006/table">
            <a:tbl>
              <a:tblPr/>
              <a:tblGrid>
                <a:gridCol w="2417760"/>
                <a:gridCol w="16207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труктура налогов на имущество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за 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20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21 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Object 23"/>
          <p:cNvGraphicFramePr/>
          <p:nvPr/>
        </p:nvGraphicFramePr>
        <p:xfrm>
          <a:off x="179280" y="757080"/>
          <a:ext cx="8937720" cy="544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757080"/>
                    <a:ext cx="8937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6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aphicFrame>
        <p:nvGraphicFramePr>
          <p:cNvPr id="167" name=""/>
          <p:cNvGraphicFramePr/>
          <p:nvPr/>
        </p:nvGraphicFramePr>
        <p:xfrm>
          <a:off x="4932360" y="1484280"/>
          <a:ext cx="4038480" cy="2185920"/>
        </p:xfrm>
        <a:graphic>
          <a:graphicData uri="http://schemas.openxmlformats.org/drawingml/2006/table">
            <a:tbl>
              <a:tblPr/>
              <a:tblGrid>
                <a:gridCol w="2417760"/>
                <a:gridCol w="16207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труктура неналоговых доходов бюджета муниципального образования «Городновский сельсовет»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20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21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Object 23"/>
          <p:cNvGraphicFramePr/>
          <p:nvPr/>
        </p:nvGraphicFramePr>
        <p:xfrm>
          <a:off x="-57240" y="835200"/>
          <a:ext cx="9269640" cy="568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7240" y="835200"/>
                    <a:ext cx="926964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612360" cy="825336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ная часть бюджета муниципального образования «Городновский сельсовет» Железногорского района Курской области за 2021 год исполнена на 91,52%  (утверждено 6 910 422,94 руб., исполнено 6 324 452,72 руб., в том числе на заработную плату с начислениями – 4 514 272,74 руб. или 99,89% к плановым назначениям – 4 519 406,93 руб., социальные выплаты 402 838,08 руб. или 100,00% к плановым назначениям 402 839,00 руб., оплату коммунальных услуг 187 849,62 руб. или 94,21% к плановым назначениям 199 388 руб., уплату налоговых и неналоговых платежей -  27 837,93 руб.  или 95,91%  к плановым назначениям  29 026,00 руб., другие расходы  1 191 654,35 руб. или 60,02% к плановым назначениям 1 759 763,01 руб.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0100 «Общегосударственные расходы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По разделу 0100 по муниципальному образованию отражены расходы на содержание Администрации Городновского сельсовета Железногорского райо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по разделу «Общегосударственные вопросы» составили 2 200 471,87 руб. или 79,92% к плану (утверждено 2 753 422,94руб.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Процент неисполнения приходится по раздел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0102 «Функционирование высшего должностного лица субъекта Российской Федерации и муниципального образования» расходы по данному подразделу  составили  675 605,71 рублей на 100% к плану (утверждено 675 607,00 рублей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0104 «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» расходы по данному подразделу  составили 1 433 633,94 рублей на 100,00% к плану (утверждено 1 433 658,03 рублей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По подразделу 0111 «Резервные фонды».  По данному разделу утверждено 1000,00 рублей, исполнено 0,00 рублей. Причина неисполнения отсутствие непредвиденных расход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Основной процент неисполнения приходится на подраздел 0113 «Другие общегосударственные вопросы» расходы по данному подразделу составили 91 232,22 рублей на 14,19%  к плану(утверждено 643 157,91 рублей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Причиной неисполнения послужило, неиспользование остатка зарезервированных средств на 01.01.2022 в сумме 551 924,91 руб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По подразделу 0203 «Мобилизационная и вневойсковая подготов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 отчете отражены расходы  на осуществление первичного воинского учета на территориях, где отсутствуют военные комиссариаты в сумме 89 267,00 руб. или 100% к плановым назначениям 89 267,00  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одразделу 0310 «Обеспечение пожарной безопасности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ены расходы  на обеспечение первичных мер пожарной безопасности в границах муниципального образования. Расходы по данному подразделу исполнены в сумме 25 363,64 руб. или 100,00% к плану (утверждено 25 364,00 руб.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По подразделу 0412 «Национальная экономи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тверждено 241 717,00 руб., расходы исполнены на 100%.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одразделу 0502 «Коммунальное хозяйств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тверждено 100 427,00 руб., расходы исполнены на 100%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одразделу 0503 «Благоустройств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ражены расходы на мероприятия по благоустройству муниципального образования. Расходы составили 250 079,20 руб. или 100,00%  к плану (утверждено 250 080,00 руб).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раздел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0801 «Культур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сходы составили 3 014 288,93 или 98,92%  (утверждено 3 047 306,00 руб.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бюджета муниципального образования «Городновский сельсовет» Железногорского района Курской области в течение года производилось финансирование Городновского центрального Дома куль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производилось за счет средств местного бюджета, а также из средств областного бюджета. Расходы на выплату заработной платы с начислениями составили – 2 559 647,75 руб. в том числе средства областного бюджета- 869 322, средства местного бюджета-1 690 325,75 ру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Средняя заработная плата работников культуры по «дорожной карте» на 2020 год установлена  32 831,30 руб., фактически исполнено 32 831,30 ру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одразделу 1001 «Пенсионное обеспечени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ходы составили  402 838,08  руб. или 100,00 % к утвержденным бюджетным назначениям 402 839 ру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данному подразделу производились расходы по доплате к пенсии бывшим главам муниципального образования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175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800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муниципального образования «Городновский сельсовет»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55640" y="836640"/>
          <a:ext cx="7993080" cy="5170320"/>
        </p:xfrm>
        <a:graphic>
          <a:graphicData uri="http://schemas.openxmlformats.org/drawingml/2006/table">
            <a:tbl>
              <a:tblPr/>
              <a:tblGrid>
                <a:gridCol w="1817640"/>
                <a:gridCol w="4238640"/>
                <a:gridCol w="1936800"/>
              </a:tblGrid>
              <a:tr h="1025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2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4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6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8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Диаграмма 1"/>
          <p:cNvGraphicFramePr/>
          <p:nvPr/>
        </p:nvGraphicFramePr>
        <p:xfrm>
          <a:off x="343080" y="353880"/>
          <a:ext cx="8218440" cy="545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Диаграмма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080" y="353880"/>
                    <a:ext cx="821844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97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24000" y="549360"/>
          <a:ext cx="8351640" cy="506736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витие культуры в муниципальном образовании «Городновский сельсов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елезногорского района Курской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витие муниципальной службы в Городновском сельсов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елезногорского района  Курской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щита населения и территории от чрезвычайных ситуац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пожарной безопасности и безопасности людей на водных объектах в Городновском сельсовете Железногорского района Курской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доступным и комфортным жильем и коммунальными услугами граждан в Городновском сельсовете Железногорского района Курской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альная поддержка граждан в Городновском  сельсов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елезногорского района Курской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5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044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468360" y="1268280"/>
            <a:ext cx="806436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Городновский сельсовет» Железногорского района  за 2021 год утверждён в соответствии с действующим законодательством. Исполнение бюджета рассматривается и обсуждается на публичных слушаниях среди населения. Подлежит опубликованию в газете «Жизнь района» и на сайте Администрации Городновского сельсовета Железногорского района Курской области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13" descr="https://astrakhanfm.ru/uploads/posts/2019-12/1576220304_bjudzhetbjudzhet.jpg"/>
          <p:cNvPicPr/>
          <p:nvPr/>
        </p:nvPicPr>
        <p:blipFill>
          <a:blip r:embed="rId2"/>
          <a:stretch/>
        </p:blipFill>
        <p:spPr>
          <a:xfrm>
            <a:off x="642960" y="2482920"/>
            <a:ext cx="77151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6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75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396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8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Городновский сельсовет» за 2020 год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5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 14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2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044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«Городновский сельсов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13"/>
          <p:cNvSpPr/>
          <p:nvPr/>
        </p:nvSpPr>
        <p:spPr>
          <a:xfrm>
            <a:off x="0" y="1173240"/>
            <a:ext cx="308772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налог на доходы физических лиц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налог на имущество с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Прямая со стрелкой 5"/>
          <p:cNvCxnSpPr>
            <a:stCxn id="106" idx="6"/>
            <a:endCxn id="105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8" name="Прямая со стрелкой 7"/>
          <p:cNvCxnSpPr>
            <a:stCxn id="109" idx="2"/>
            <a:endCxn id="105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0" name="Прямая со стрелкой 12"/>
          <p:cNvCxnSpPr>
            <a:endCxn id="105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11" name="TextBox 15"/>
          <p:cNvSpPr/>
          <p:nvPr/>
        </p:nvSpPr>
        <p:spPr>
          <a:xfrm>
            <a:off x="5003640" y="32796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ниципального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81080" y="-964080"/>
            <a:ext cx="9577440" cy="782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2021 год бюджет  муниципального образования «Городновский сельсовет» по доходам исполнен на 100,05 % (план – 6138900,00 рублей, факт – 6141934,30 рублей), в том числе за счёт поступления собственных (налоговых и неналоговых) доходов на 100,06% (план – 4673167,00 рублей, факт – 4676201,30 рублей),  что составляет 76,14 % от общего объема поступивших средст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именова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сполнен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бственные средст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НДФЛ 102822,64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 Налоги на совокупный доход169949,00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Налоги на имущество3174756,26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Доходы от использования имущества, находящегося в государственной и муниципальной собственно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200780,1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Платежи в целях возмещения причиненного ущерба (убытков)27893,21 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Основными доходными источниками поступлений собственных средств в бюджет муниципального образования «Городновский сельсовет» являются земельный налог – 65,76% от общей суммы собственных доходов и доход от использования имущества –  25,68 %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звозмездные поступления 1465733 рублей, что составляет 23,86 % от общего объема поступивших средств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Субсидии бюджетам бюджетной системы Российской Федерации (межбюджетные субсидии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69322,00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Субвенции бюджетам сельских поселений на осуществление первичного воинского учета на территориях, где отсутствуют военные комиссариаты 89267,00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Иные межбюджетные трансферты 342144,00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Прочие безвозмездные поступления в бюджеты сельских поселений 165000,00</a:t>
            </a:r>
            <a:br>
              <a:rPr sz="1600"/>
            </a:b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«Городновский сельсовет» за 202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401760" y="1544760"/>
            <a:ext cx="81565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17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Text Box 3"/>
          <p:cNvSpPr/>
          <p:nvPr/>
        </p:nvSpPr>
        <p:spPr>
          <a:xfrm>
            <a:off x="0" y="6524640"/>
            <a:ext cx="9144000" cy="304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 flipV="1">
            <a:off x="-54144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932360" y="1484280"/>
          <a:ext cx="4038480" cy="2185920"/>
        </p:xfrm>
        <a:graphic>
          <a:graphicData uri="http://schemas.openxmlformats.org/drawingml/2006/table">
            <a:tbl>
              <a:tblPr/>
              <a:tblGrid>
                <a:gridCol w="2417760"/>
                <a:gridCol w="16207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уктура налоговых и неналоговых доходов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юджета муниципального образования «Городновский сельсовет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в 2021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Object 24"/>
          <p:cNvGraphicFramePr/>
          <p:nvPr/>
        </p:nvGraphicFramePr>
        <p:xfrm>
          <a:off x="272880" y="2268360"/>
          <a:ext cx="8604360" cy="358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" y="2268360"/>
                    <a:ext cx="860436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7"/>
          <p:cNvSpPr/>
          <p:nvPr/>
        </p:nvSpPr>
        <p:spPr>
          <a:xfrm>
            <a:off x="250920" y="1052640"/>
            <a:ext cx="8464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ОХОДЫ всего: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2021 год – 4676,2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ыс.рублей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5"/>
          <p:cNvSpPr/>
          <p:nvPr/>
        </p:nvSpPr>
        <p:spPr>
          <a:xfrm>
            <a:off x="2330280" y="2565360"/>
            <a:ext cx="45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Неналогов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оход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 228,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Buch</cp:lastModifiedBy>
  <dcterms:modified xsi:type="dcterms:W3CDTF">2023-03-06T09:49:02Z</dcterms:modified>
  <cp:revision>258</cp:revision>
  <dc:subject/>
  <dc:title>Презентация PowerPoint</dc:title>
</cp:coreProperties>
</file>