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1C76-8F3C-4EB2-8B5C-AFC49D4B9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280F-0F8C-4A63-9128-0C0355D1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1518-9E68-4CAC-823B-740D5471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1371-9F33-4FF0-825A-A7691CD7E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7A4B-A0A6-4736-80CB-82029BBB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9198-1069-48A0-8CA7-D6FD51E1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B47A-3CC7-40A6-8AC0-9D0A55EF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9339-713C-422A-9C83-FAE57F18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22A5-D6A2-4068-AD11-BA9059B8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559C-A11B-43C4-B0F1-0C25427F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421C-A1C8-4E0D-A575-33B2465B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F150-8636-49BF-9919-C3B9D6F7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F965-B616-4DC1-BACA-5DFBFB31F7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297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БЮДЖЕТ ДЛЯ ГРАЖДАН</a:t>
            </a:r>
            <a:br>
              <a:rPr sz="44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муниципального образования </a:t>
            </a:r>
            <a:r>
              <a:rPr b="1" lang="ru-RU" sz="4200" spc="-1" strike="noStrike">
                <a:solidFill>
                  <a:srgbClr val="ff0000"/>
                </a:solidFill>
                <a:latin typeface="Georgia"/>
              </a:rPr>
              <a:t>«Городновский сельсовет»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 Железногорского района Курской области на 201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8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 год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и на плановый период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201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9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 и 20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20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 го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31" descr="tim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18d2"/>
                </a:solidFill>
                <a:latin typeface="Georgia"/>
              </a:rPr>
              <a:t>«Программная» структура бюджета муниципального образования «Городновский сельсовет» Железногорского района Курской области в 2018-2020 годах (тыс.руб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0" y="476280"/>
          <a:ext cx="9144000" cy="6727680"/>
        </p:xfrm>
        <a:graphic>
          <a:graphicData uri="http://schemas.openxmlformats.org/drawingml/2006/table">
            <a:tbl>
              <a:tblPr/>
              <a:tblGrid>
                <a:gridCol w="6499080"/>
                <a:gridCol w="884520"/>
                <a:gridCol w="853920"/>
                <a:gridCol w="906480"/>
              </a:tblGrid>
              <a:tr h="85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Расходы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383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382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38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Расходы на реализацию муниципальных программ, 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36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36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36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1. Муниципальная программа «Развитие культуры в муниципальном образовании «Городновский  сельсовет» Железногорского района Курской области на 2014-2020 год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02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08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818d2"/>
                          </a:solidFill>
                          <a:latin typeface="Georgia"/>
                        </a:rPr>
                        <a:t>2.Муниципальная программа «Социальная поддержка граждан в Городновском  сельсовете Железногорского района Курской области на 2015-2020 год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18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18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18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3. Муниципальная программа «Благоустройство Городновского сельсовета Железногорского района Курской области на 2015-2020 год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4. Муниципальная программа «Развитие муниципальной службы в Городновском сельсовете Железногорского района Курской области на 2015-2020 год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5. Муниципальная программа «Снижение рисков и смягчение последствий ЧС природного и техногенного характера на территории муниципального образования «Городновский сельсовет Железногорского района Курской области на 2015-2020 год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6" descr="9d9bea5b6ea984b4e8dc344bf4a6f1e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a102d"/>
                </a:solidFill>
                <a:latin typeface="Georgia"/>
              </a:rPr>
              <a:t>Расходы на общегосударственные вопросы </a:t>
            </a:r>
            <a:br>
              <a:rPr sz="2000"/>
            </a:br>
            <a:r>
              <a:rPr b="1" lang="ru-RU" sz="2000" spc="-1" strike="noStrike">
                <a:solidFill>
                  <a:srgbClr val="da102d"/>
                </a:solidFill>
                <a:latin typeface="Georgia"/>
              </a:rPr>
              <a:t>муниципального образования «Городновский сельсовет» </a:t>
            </a:r>
            <a:br>
              <a:rPr sz="2000"/>
            </a:br>
            <a:r>
              <a:rPr b="1" lang="ru-RU" sz="2000" spc="-1" strike="noStrike">
                <a:solidFill>
                  <a:srgbClr val="da102d"/>
                </a:solidFill>
                <a:latin typeface="Georgia"/>
              </a:rPr>
              <a:t>Железногорского района Курской области (тыс.руб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00040" y="1428840"/>
          <a:ext cx="8215200" cy="5251320"/>
        </p:xfrm>
        <a:graphic>
          <a:graphicData uri="http://schemas.openxmlformats.org/drawingml/2006/table">
            <a:tbl>
              <a:tblPr/>
              <a:tblGrid>
                <a:gridCol w="4857840"/>
                <a:gridCol w="1143000"/>
                <a:gridCol w="1143000"/>
                <a:gridCol w="1071360"/>
              </a:tblGrid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2018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2019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Общегосударственные вопросы, 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126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118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114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Обеспечение функционирования главы муниципа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34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34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34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Обеспечение деятельности администрации муниципа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60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60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60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Выполнение других обязательств муниципальных образов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1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1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1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Другие общегосударственные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29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22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18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dengi_midl00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66"/>
                </a:solidFill>
                <a:latin typeface="Georgia"/>
              </a:rPr>
              <a:t>Муниципальный бюджет – это форма</a:t>
            </a:r>
            <a:br>
              <a:rPr sz="2200"/>
            </a:br>
            <a:r>
              <a:rPr b="1" lang="ru-RU" sz="2200" spc="-1" strike="noStrike">
                <a:solidFill>
                  <a:srgbClr val="000066"/>
                </a:solidFill>
                <a:latin typeface="Georgia"/>
              </a:rPr>
              <a:t> образования и расходования денежных средств, предназначенных для финансового обеспечения задач и функций органов местного самоуправления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 rot="16200000">
            <a:off x="1007280" y="872280"/>
            <a:ext cx="2736720" cy="4392720"/>
          </a:xfrm>
          <a:prstGeom prst="horizontalScroll">
            <a:avLst>
              <a:gd name="adj" fmla="val 12500"/>
            </a:avLst>
          </a:prstGeom>
          <a:solidFill>
            <a:srgbClr val="efc7e4">
              <a:alpha val="50000"/>
            </a:srgbClr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До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оступ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бюджет денеж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редства в ви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логовых , неналоговых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безвозмездных поступ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 rot="16200000">
            <a:off x="5435640" y="907920"/>
            <a:ext cx="2736720" cy="4321440"/>
          </a:xfrm>
          <a:prstGeom prst="horizontalScroll">
            <a:avLst>
              <a:gd name="adj" fmla="val 12500"/>
            </a:avLst>
          </a:prstGeom>
          <a:solidFill>
            <a:srgbClr val="abbafb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Рас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дене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редства, направля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финансовое обесп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задач и функций орг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естного само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468360" y="4653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f8bda6">
              <a:alpha val="50000"/>
            </a:srgbClr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Де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расходов бюджета над его до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"/>
          <p:cNvSpPr/>
          <p:nvPr/>
        </p:nvSpPr>
        <p:spPr>
          <a:xfrm>
            <a:off x="468360" y="5661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b4faa4">
              <a:alpha val="50000"/>
            </a:srgbClr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Про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доходов бюджета над его расход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1audittrassi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Georgia"/>
              </a:rPr>
              <a:t>Составление бюджета основывается н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1844640"/>
            <a:ext cx="4608360" cy="2160720"/>
          </a:xfrm>
          <a:custGeom>
            <a:avLst/>
            <a:gdLst>
              <a:gd name="textAreaLeft" fmla="*/ 576000 w 4608360"/>
              <a:gd name="textAreaRight" fmla="*/ 4032360 w 460836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2">
              <a:alphaModFix amt="49000"/>
            </a:blip>
            <a:srcRect/>
            <a:tile tx="0" ty="0" sx="100000" sy="100000" algn="ctr"/>
          </a:blip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юджетном посл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езиден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4"/>
          <p:cNvSpPr/>
          <p:nvPr/>
        </p:nvSpPr>
        <p:spPr>
          <a:xfrm>
            <a:off x="4572000" y="184464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3">
              <a:alphaModFix amt="49000"/>
            </a:blip>
            <a:srcRect/>
            <a:tile tx="0" ty="0" sx="100000" sy="100000" algn="ctr"/>
          </a:blip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Основных направл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юджетно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налоговой поли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>
            <a:off x="4606920" y="4437000"/>
            <a:ext cx="4537080" cy="2160720"/>
          </a:xfrm>
          <a:custGeom>
            <a:avLst/>
            <a:gdLst>
              <a:gd name="textAreaLeft" fmla="*/ 567000 w 4537080"/>
              <a:gd name="textAreaRight" fmla="*/ 3970080 w 453708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4">
              <a:alphaModFix amt="49000"/>
            </a:blip>
            <a:srcRect/>
            <a:tile tx="0" ty="0" sx="100000" sy="100000" algn="ctr"/>
          </a:blip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Муниципальных программ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Городновского сельсо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6"/>
          <p:cNvSpPr/>
          <p:nvPr/>
        </p:nvSpPr>
        <p:spPr>
          <a:xfrm>
            <a:off x="0" y="443700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5">
              <a:alphaModFix amt="49000"/>
            </a:blip>
            <a:srcRect/>
            <a:tile tx="0" ty="0" sx="100000" sy="100000" algn="ctr"/>
          </a:blip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огноз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социально-экономиче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азвития М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«Городновский сельсов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3" descr="10316863_b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02d"/>
                </a:solidFill>
                <a:latin typeface="Georgia"/>
              </a:rPr>
              <a:t>Основные параметры бюджета </a:t>
            </a:r>
            <a:br>
              <a:rPr sz="2400"/>
            </a:br>
            <a:r>
              <a:rPr b="1" lang="ru-RU" sz="2400" spc="-1" strike="noStrike">
                <a:solidFill>
                  <a:srgbClr val="da102d"/>
                </a:solidFill>
                <a:latin typeface="Georgia"/>
              </a:rPr>
              <a:t>муниципального образования </a:t>
            </a:r>
            <a:br>
              <a:rPr sz="2400"/>
            </a:br>
            <a:r>
              <a:rPr b="1" lang="ru-RU" sz="2400" spc="-1" strike="noStrike">
                <a:solidFill>
                  <a:srgbClr val="da102d"/>
                </a:solidFill>
                <a:latin typeface="Georgia"/>
              </a:rPr>
              <a:t>«Городновский сельсовет»  Железногорского района Курской области на 2018 год и плановый период 2019-2020г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2205000"/>
          <a:ext cx="7961400" cy="4262400"/>
        </p:xfrm>
        <a:graphic>
          <a:graphicData uri="http://schemas.openxmlformats.org/drawingml/2006/table">
            <a:tbl>
              <a:tblPr/>
              <a:tblGrid>
                <a:gridCol w="2670120"/>
                <a:gridCol w="1862280"/>
                <a:gridCol w="1785960"/>
                <a:gridCol w="1643040"/>
              </a:tblGrid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именовани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оходы – всего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8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82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82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131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том числ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бственные доходы (тыс.рублей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82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656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656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83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сходы – всего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8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82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82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ефицит местного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23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61e0c"/>
                </a:solidFill>
                <a:latin typeface="Georgia"/>
              </a:rPr>
              <a:t>Доходы бюджета муниципального образования «Городновский сельсовет» на 201</a:t>
            </a:r>
            <a:r>
              <a:rPr b="1" lang="en-US" sz="3000" spc="-1" strike="noStrike">
                <a:solidFill>
                  <a:srgbClr val="c61e0c"/>
                </a:solidFill>
                <a:latin typeface="Georgia"/>
              </a:rPr>
              <a:t>8</a:t>
            </a:r>
            <a:r>
              <a:rPr b="1" lang="ru-RU" sz="3000" spc="-1" strike="noStrike">
                <a:solidFill>
                  <a:srgbClr val="c61e0c"/>
                </a:solidFill>
                <a:latin typeface="Georgia"/>
              </a:rPr>
              <a:t> г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Схема 1" descr=""/>
          <p:cNvPicPr/>
          <p:nvPr/>
        </p:nvPicPr>
        <p:blipFill>
          <a:blip r:embed="rId2"/>
          <a:stretch/>
        </p:blipFill>
        <p:spPr>
          <a:xfrm>
            <a:off x="268200" y="1841400"/>
            <a:ext cx="862668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7" descr="main"/>
          <p:cNvPicPr/>
          <p:nvPr/>
        </p:nvPicPr>
        <p:blipFill>
          <a:blip r:embed="rId1"/>
          <a:stretch/>
        </p:blipFill>
        <p:spPr>
          <a:xfrm>
            <a:off x="-428760" y="357120"/>
            <a:ext cx="10572840" cy="70725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5840" y="475920"/>
            <a:ext cx="82677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Городновский сельсовет» 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на 2018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Object 16" descr=""/>
          <p:cNvPicPr/>
          <p:nvPr/>
        </p:nvPicPr>
        <p:blipFill>
          <a:blip r:embed="rId2"/>
          <a:stretch/>
        </p:blipFill>
        <p:spPr>
          <a:xfrm>
            <a:off x="-428760" y="2571840"/>
            <a:ext cx="907272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7" descr="main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Городновский сельсовет» 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на 2019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ject 16" descr=""/>
          <p:cNvPicPr/>
          <p:nvPr/>
        </p:nvPicPr>
        <p:blipFill>
          <a:blip r:embed="rId2"/>
          <a:stretch/>
        </p:blipFill>
        <p:spPr>
          <a:xfrm>
            <a:off x="428760" y="2057400"/>
            <a:ext cx="8715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7" descr="main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Городновский сельсовет» 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на 2020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Object 16" descr=""/>
          <p:cNvPicPr/>
          <p:nvPr/>
        </p:nvPicPr>
        <p:blipFill>
          <a:blip r:embed="rId2"/>
          <a:stretch/>
        </p:blipFill>
        <p:spPr>
          <a:xfrm>
            <a:off x="0" y="2286000"/>
            <a:ext cx="89298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91" descr="ZZ446cH-hH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102d"/>
                </a:solidFill>
                <a:latin typeface="Georgia"/>
              </a:rPr>
              <a:t>Расходы бюджета муниципального образования «Городновский сельсовет» Железногорского района Курской области на 2018 год и на плановый период 2019 и 2020 годов (тыс.руб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8360" y="1125360"/>
          <a:ext cx="8318520" cy="5270760"/>
        </p:xfrm>
        <a:graphic>
          <a:graphicData uri="http://schemas.openxmlformats.org/drawingml/2006/table">
            <a:tbl>
              <a:tblPr/>
              <a:tblGrid>
                <a:gridCol w="2079720"/>
                <a:gridCol w="2079360"/>
                <a:gridCol w="2079720"/>
                <a:gridCol w="2079720"/>
              </a:tblGrid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оказате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Культура, кинематограф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енсионное обеспе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3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2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9T18:34:03Z</dcterms:created>
  <dc:creator>Admin</dc:creator>
  <dc:description/>
  <dc:language>en-US</dc:language>
  <cp:lastModifiedBy>Buch</cp:lastModifiedBy>
  <dcterms:modified xsi:type="dcterms:W3CDTF">2017-12-29T11:37:44Z</dcterms:modified>
  <cp:revision>48</cp:revision>
  <dc:subject/>
  <dc:title>БЮДЖЕТ ДЛЯ ГРАЖДАН  муниципального образования «Кармановский сельсовет» Железногорского района Курской области на 2015 год  и на плановый период  2016 и 2017 годов</dc:title>
</cp:coreProperties>
</file>