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96C-FEDE-44F3-8AF9-3232619E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440-343D-44F3-8F4C-01D197B3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3FE-6D85-4E70-BE45-8D46007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D82-BF74-4837-A3E8-ED96580D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283-2D1D-4E1B-A782-D984A73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BDC-97D2-4E89-9823-F9EE1520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EF2-6F37-4BFE-82F6-54A2876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C0E-3B61-4793-A269-EE2DDDF5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65F-3F23-401B-ABC1-E7319EF7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061-7A10-4088-82D9-0C6A20B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2C0-3BD6-4395-AF22-C3AEE94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073-F8B7-4D87-9D5F-F8FD7DC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CDA-76F8-4751-8E90-6BA78F3D8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29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ОЕКТ БЮДЖЕТА ДЛЯ ГРАЖДАН</a:t>
            </a:r>
            <a:br>
              <a:rPr sz="4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Городновс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2020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21 и 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16" descr=""/>
          <p:cNvPicPr/>
          <p:nvPr/>
        </p:nvPicPr>
        <p:blipFill>
          <a:blip r:embed="rId2"/>
          <a:stretch/>
        </p:blipFill>
        <p:spPr>
          <a:xfrm>
            <a:off x="57240" y="2308320"/>
            <a:ext cx="8964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1" descr="ZZ446cH-h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Городновский сельсовет» Железногорского района Курской области на 2020 год и на плановый период 2021 и 2022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125360"/>
          <a:ext cx="8318520" cy="5767560"/>
        </p:xfrm>
        <a:graphic>
          <a:graphicData uri="http://schemas.openxmlformats.org/drawingml/2006/table">
            <a:tbl>
              <a:tblPr/>
              <a:tblGrid>
                <a:gridCol w="2079720"/>
                <a:gridCol w="2079360"/>
                <a:gridCol w="2079720"/>
                <a:gridCol w="20797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1" descr="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Городновский сельсовет» Железногорского района Курской области в 2020-2022 годах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052640"/>
          <a:ext cx="9180360" cy="5967360"/>
        </p:xfrm>
        <a:graphic>
          <a:graphicData uri="http://schemas.openxmlformats.org/drawingml/2006/table">
            <a:tbl>
              <a:tblPr/>
              <a:tblGrid>
                <a:gridCol w="6156360"/>
                <a:gridCol w="936720"/>
                <a:gridCol w="934920"/>
                <a:gridCol w="11523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766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7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7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4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03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муниципальном образовании «Городновский  сельсовет»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72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3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4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2.Муниципальная программа «Социальная поддержка граждан в Городновском 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 Муниципальная программа «Благоустройство Городновского сельсовета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 Муниципальная программа «Развитие муниципальной службы в Городновс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. Муниципальная программа «Снижение рисков и смягчение последствий ЧС природного и техногенного характера на территории муниципального образования «Городновский сельсовет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6" descr="9d9bea5b6ea984b4e8dc344bf4a6f1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Городновс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11280" y="1268280"/>
          <a:ext cx="8215200" cy="5383440"/>
        </p:xfrm>
        <a:graphic>
          <a:graphicData uri="http://schemas.openxmlformats.org/drawingml/2006/table">
            <a:tbl>
              <a:tblPr/>
              <a:tblGrid>
                <a:gridCol w="4681440"/>
                <a:gridCol w="1224000"/>
                <a:gridCol w="1238040"/>
                <a:gridCol w="1071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18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46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1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Муниципальная программа «Развитие муниципальной службы в Городновском сельсовете Железногорского района  Кур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7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7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7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75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4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3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Выполнение других обязательств муниципальных образ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6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engi_midl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audittrassi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eorgia"/>
              </a:rPr>
              <a:t>Составление проекта бюджета основывается 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Городнов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Городновс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3" descr="10316863_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Городновский сельсовет»  Железногорского района Курской области на 2020 год и плановый период 2021-2022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7961400" cy="4262400"/>
        </p:xfrm>
        <a:graphic>
          <a:graphicData uri="http://schemas.openxmlformats.org/drawingml/2006/table">
            <a:tbl>
              <a:tblPr/>
              <a:tblGrid>
                <a:gridCol w="2670120"/>
                <a:gridCol w="1862280"/>
                <a:gridCol w="1785960"/>
                <a:gridCol w="164304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2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0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1" descr=""/>
          <p:cNvPicPr/>
          <p:nvPr/>
        </p:nvPicPr>
        <p:blipFill>
          <a:blip r:embed="rId2"/>
          <a:stretch/>
        </p:blipFill>
        <p:spPr>
          <a:xfrm>
            <a:off x="304920" y="1841400"/>
            <a:ext cx="85899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1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1" descr=""/>
          <p:cNvPicPr/>
          <p:nvPr/>
        </p:nvPicPr>
        <p:blipFill>
          <a:blip r:embed="rId2"/>
          <a:stretch/>
        </p:blipFill>
        <p:spPr>
          <a:xfrm>
            <a:off x="268200" y="1841400"/>
            <a:ext cx="8626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2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хема 1" descr=""/>
          <p:cNvPicPr/>
          <p:nvPr/>
        </p:nvPicPr>
        <p:blipFill>
          <a:blip r:embed="rId2"/>
          <a:stretch/>
        </p:blipFill>
        <p:spPr>
          <a:xfrm>
            <a:off x="324000" y="1841400"/>
            <a:ext cx="84960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main"/>
          <p:cNvPicPr/>
          <p:nvPr/>
        </p:nvPicPr>
        <p:blipFill>
          <a:blip r:embed="rId1"/>
          <a:stretch/>
        </p:blipFill>
        <p:spPr>
          <a:xfrm>
            <a:off x="0" y="-171360"/>
            <a:ext cx="10764720" cy="7029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5324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16" descr=""/>
          <p:cNvPicPr/>
          <p:nvPr/>
        </p:nvPicPr>
        <p:blipFill>
          <a:blip r:embed="rId2"/>
          <a:stretch/>
        </p:blipFill>
        <p:spPr>
          <a:xfrm>
            <a:off x="-50760" y="282600"/>
            <a:ext cx="106506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7" descr="main"/>
          <p:cNvPicPr/>
          <p:nvPr/>
        </p:nvPicPr>
        <p:blipFill>
          <a:blip r:embed="rId1"/>
          <a:stretch/>
        </p:blipFill>
        <p:spPr>
          <a:xfrm>
            <a:off x="-541440" y="-998640"/>
            <a:ext cx="10514160" cy="7850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1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16" descr=""/>
          <p:cNvPicPr/>
          <p:nvPr/>
        </p:nvPicPr>
        <p:blipFill>
          <a:blip r:embed="rId2"/>
          <a:stretch/>
        </p:blipFill>
        <p:spPr>
          <a:xfrm>
            <a:off x="214200" y="1484280"/>
            <a:ext cx="90759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Buch</cp:lastModifiedBy>
  <dcterms:modified xsi:type="dcterms:W3CDTF">2019-12-06T09:02:40Z</dcterms:modified>
  <cp:revision>71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